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1168-C80A-4746-A655-D3CD4132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0DD9-4005-4B12-A189-739973B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DC04-6B3D-4E68-9E09-88F46EDA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DEAD-3AF4-441C-823D-4F11103F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2A76-8A82-4C87-BEB7-71367AAC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ED5-1C9A-430F-B261-83C08891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0573-56AC-4782-A3F5-A7C6F56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B9C-03E3-4A7B-B718-AA887511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E04A-4EAF-4EE3-BDDD-0380010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0972-5EB0-4FF1-ADC5-D19B7CBE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EE1F-8056-464B-A4AF-EE6AE33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FDF4-4064-4127-918B-757543F7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8CE3-272E-498C-8084-6A472D4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CA50-1525-4C22-9A0B-D5BEA37D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FF12-F35B-4D30-ACD6-EAA8685A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83B6-5773-4A88-8A04-5941B36C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5BE5-C8B4-4DE9-BFB0-C9225E59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8753-2898-44C6-8A05-BF407FF1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B84E-D8DB-4D9F-9A56-BF78BEC5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C265-4CE9-4A40-9FB6-91FF64B0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5777-8C74-481A-8EC1-9808BF3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7DD4-790A-4DAF-A3DA-6701E148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B462-1A83-4ED9-BFB1-844BF6B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8273-B9DB-4684-99A6-2F2F6CF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519B-7387-40C3-8227-93F5B157B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95F-24AB-4443-A3CD-7D7DC8397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kreativni_jesen.ppt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sej%20za%20jesen.pdf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etnja%20vocnjakom.pdf" TargetMode="External"/><Relationship Id="rId2" Type="http://schemas.openxmlformats.org/officeDocument/2006/relationships/hyperlink" Target="file:///Setnja%20vocnjakom.pdf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5280" y="1773000"/>
            <a:ext cx="7488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Музичка култура за први разре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08000" y="3068280"/>
            <a:ext cx="3025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7400" spc="-1" strike="noStrike">
                <a:solidFill>
                  <a:srgbClr val="ffffff"/>
                </a:solidFill>
                <a:latin typeface="Times New Roman"/>
              </a:rPr>
              <a:t>Јесен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0429716"/>
          <p:cNvPicPr/>
          <p:nvPr/>
        </p:nvPicPr>
        <p:blipFill>
          <a:blip r:embed="rId1"/>
          <a:stretch/>
        </p:blipFill>
        <p:spPr>
          <a:xfrm rot="6999600">
            <a:off x="7244280" y="4716720"/>
            <a:ext cx="1211040" cy="1514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20429716"/>
          <p:cNvPicPr/>
          <p:nvPr/>
        </p:nvPicPr>
        <p:blipFill>
          <a:blip r:embed="rId2"/>
          <a:stretch/>
        </p:blipFill>
        <p:spPr>
          <a:xfrm rot="6999600">
            <a:off x="7357680" y="282240"/>
            <a:ext cx="979560" cy="122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0429716"/>
          <p:cNvPicPr/>
          <p:nvPr/>
        </p:nvPicPr>
        <p:blipFill>
          <a:blip r:embed="rId3"/>
          <a:stretch/>
        </p:blipFill>
        <p:spPr>
          <a:xfrm rot="17327400">
            <a:off x="4939200" y="4572360"/>
            <a:ext cx="1211400" cy="1514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0429716"/>
          <p:cNvPicPr/>
          <p:nvPr/>
        </p:nvPicPr>
        <p:blipFill>
          <a:blip r:embed="rId4"/>
          <a:stretch/>
        </p:blipFill>
        <p:spPr>
          <a:xfrm rot="6999600">
            <a:off x="3354480" y="5148720"/>
            <a:ext cx="121140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488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(3) Слушање песме </a:t>
            </a:r>
            <a:r>
              <a:rPr b="1" i="1" lang="sr-CS" sz="3000" spc="-1" strike="noStrike">
                <a:solidFill>
                  <a:srgbClr val="000000"/>
                </a:solidFill>
                <a:latin typeface="Times New Roman"/>
              </a:rPr>
              <a:t>“Јесен”,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А.Кора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428480"/>
            <a:ext cx="61038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Питања за разговор после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првог слушањ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О чему говори песма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2. После ког годишњег доба долази јесен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3.Опиши јесењи дан из песм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Питања пре другог слушањ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Ко изводи песму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(уочавање/препознавање/разликовањ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евање – свирање; један певач –  хор; мушк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глас – дечји хо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(Водити разговор после другог слушањ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9740968"/>
          <p:cNvPicPr/>
          <p:nvPr/>
        </p:nvPicPr>
        <p:blipFill>
          <a:blip r:embed="rId1"/>
          <a:stretch/>
        </p:blipFill>
        <p:spPr>
          <a:xfrm>
            <a:off x="5867280" y="1628640"/>
            <a:ext cx="2438640" cy="2565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1714680" y="4826160"/>
            <a:ext cx="2071440" cy="2031840"/>
          </a:xfrm>
          <a:prstGeom prst="rect">
            <a:avLst/>
          </a:prstGeom>
          <a:ln w="0">
            <a:noFill/>
          </a:ln>
        </p:spPr>
      </p:pic>
      <p:sp>
        <p:nvSpPr>
          <p:cNvPr id="195" name="Line 7"/>
          <p:cNvSpPr/>
          <p:nvPr/>
        </p:nvSpPr>
        <p:spPr>
          <a:xfrm>
            <a:off x="539640" y="4714920"/>
            <a:ext cx="763272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468360" y="2786040"/>
            <a:ext cx="489564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4500720" y="4786200"/>
            <a:ext cx="728640" cy="2071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94836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0551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(4) Учење песме “</a:t>
            </a:r>
            <a:r>
              <a:rPr b="1" i="1" lang="sr-CS" sz="3000" spc="-1" strike="noStrike">
                <a:solidFill>
                  <a:srgbClr val="000000"/>
                </a:solidFill>
                <a:latin typeface="Times New Roman"/>
              </a:rPr>
              <a:t>Јесен”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(З. М. Васиљевић)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792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ви корак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евање раније научених песама (распевавање/припремање гласа на познатим песмама које имају  приближно исти мелодијски опсег), пр. певана бројалица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Ко пре до мен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есма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Ко шта 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Други корак: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Слушање и доживљај песме као подстицај за њено учење јесте редовна етапа рада у савлађивању нове песме. Слушање песме одвија се са снимљеног материјала  или у алтернативи са извођењем наставника уж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рећи корак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чење песме методом рада по слуху тј. певање у дијалогу између наставника и ученика. Ради лакшег савлађивања, песма се може поделити на дв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4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такта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ли тр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4+4+4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так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раз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што зависи од претходног певачког искуства ученика. Одмах водити рачуна о изражајном извођењу тј. правилној дикцији, темпу и динамиц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8"/>
          <p:cNvGraphicFramePr/>
          <p:nvPr/>
        </p:nvGraphicFramePr>
        <p:xfrm>
          <a:off x="250920" y="1830240"/>
          <a:ext cx="849780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30240"/>
                    <a:ext cx="8497800" cy="622440"/>
                  </a:xfrm>
                  <a:prstGeom prst="rect">
                    <a:avLst/>
                  </a:prstGeom>
                  <a:ln cap="rnd" w="38160">
                    <a:solidFill>
                      <a:srgbClr val="cc3300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5007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7327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802800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66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9833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985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i="1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Певање песме уз свирање на штапић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460836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ошто је песма добро научена, њено певање пратити свирањем на штапићима на  означеним местима (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), тј. у осмом такту  и у последњем такту као пратња ономатопеји 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ток, ток, ток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35640" y="31417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Погледајте анима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859280" y="2403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X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740720" y="2421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X    X   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50920" y="1773360"/>
            <a:ext cx="8497800" cy="1008000"/>
          </a:xfrm>
          <a:prstGeom prst="rect">
            <a:avLst/>
          </a:prstGeom>
          <a:noFill/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5724360" y="501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3300"/>
                </a:solidFill>
                <a:latin typeface="Arial"/>
              </a:rPr>
              <a:t>ЈЕС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1"/>
          <a:stretch/>
        </p:blipFill>
        <p:spPr>
          <a:xfrm>
            <a:off x="250920" y="1830240"/>
            <a:ext cx="8497800" cy="622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17236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0767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0942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61740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i="1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Стваралачке игре </a:t>
            </a:r>
            <a:br>
              <a:rPr sz="3000"/>
            </a:br>
            <a:r>
              <a:rPr b="1" i="1" lang="sr-C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3000"/>
            </a:br>
            <a:r>
              <a:rPr b="1" i="1" lang="sr-C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r-CS" sz="2600" spc="-1" strike="noStrike" u="sng">
                <a:solidFill>
                  <a:srgbClr val="cc6600"/>
                </a:solidFill>
                <a:uFillTx/>
                <a:latin typeface="Times New Roman"/>
              </a:rPr>
              <a:t>Опонашање падања кестења</a:t>
            </a:r>
            <a:r>
              <a:rPr b="1" i="1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96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На питање како пада твој кестен, подстицати ученике у осмишљавању и репродукцији сопствених идеја (ритмичких комбинација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Опонашање падања кестена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први корак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- гласом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(ток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други корак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- гласом уз пратњу штапића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трећи корак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- на штапићим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У почетку рада,   једноставним примером, треба приказати шта се од ученика очекује, а затим их подржавати да истрају у игри. Свакако да ће, у почетку, све те импровизације бити сличне или чак и исте. У циљу постигнућа самосталнијих решења сличне игре треба организовати у току године дајући им нову форм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 u="sng">
                <a:solidFill>
                  <a:srgbClr val="663300"/>
                </a:solidFill>
                <a:uFillTx/>
                <a:latin typeface="Times New Roman"/>
                <a:hlinkClick r:id="rId1"/>
              </a:rPr>
              <a:t>Креативни кута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6400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140360" y="393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781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6709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8912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340000" y="3305160"/>
            <a:ext cx="479520" cy="914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6626160" cy="2592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80808"/>
                </a:solidFill>
                <a:latin typeface="Times New Roman"/>
              </a:rPr>
              <a:t>Певање песме са садржајем које се односи на текуће годишње доба (јесен)-учвршћивање трихорда </a:t>
            </a:r>
            <a:r>
              <a:rPr b="0" i="1" lang="sr-CS" sz="2400" spc="-1" strike="noStrike">
                <a:solidFill>
                  <a:srgbClr val="080808"/>
                </a:solidFill>
                <a:latin typeface="Times New Roman"/>
              </a:rPr>
              <a:t>ре-ми-фа</a:t>
            </a:r>
            <a:r>
              <a:rPr b="0" lang="sr-C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80808"/>
                </a:solidFill>
                <a:latin typeface="Times New Roman"/>
              </a:rPr>
              <a:t>Креирање ритмичких импров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6920" y="836640"/>
            <a:ext cx="295308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80808"/>
                </a:solidFill>
                <a:latin typeface="Times New Roman"/>
              </a:rPr>
              <a:t>Задатак ча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340000" y="34275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340000" y="357192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340000" y="3716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2340000" y="38592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2340000" y="40035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3203640" y="4003560"/>
            <a:ext cx="287280" cy="144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3852720" y="3932280"/>
            <a:ext cx="28764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4500720" y="3859200"/>
            <a:ext cx="28728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3492360" y="35719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4140360" y="350028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4788000" y="3427560"/>
            <a:ext cx="0" cy="50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132000" y="42195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      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7" descr="20429716"/>
          <p:cNvPicPr/>
          <p:nvPr/>
        </p:nvPicPr>
        <p:blipFill>
          <a:blip r:embed="rId2"/>
          <a:stretch/>
        </p:blipFill>
        <p:spPr>
          <a:xfrm rot="11841600">
            <a:off x="7595640" y="691920"/>
            <a:ext cx="1037880" cy="1298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8"/>
          <p:cNvSpPr/>
          <p:nvPr/>
        </p:nvSpPr>
        <p:spPr>
          <a:xfrm>
            <a:off x="320364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их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429716"/>
          <p:cNvPicPr/>
          <p:nvPr/>
        </p:nvPicPr>
        <p:blipFill>
          <a:blip r:embed="rId1"/>
          <a:stretch/>
        </p:blipFill>
        <p:spPr>
          <a:xfrm rot="756600">
            <a:off x="7451640" y="549000"/>
            <a:ext cx="1147680" cy="1434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20429716"/>
          <p:cNvPicPr/>
          <p:nvPr/>
        </p:nvPicPr>
        <p:blipFill>
          <a:blip r:embed="rId2"/>
          <a:stretch/>
        </p:blipFill>
        <p:spPr>
          <a:xfrm rot="15205800">
            <a:off x="6739560" y="4933080"/>
            <a:ext cx="1208160" cy="151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20429716"/>
          <p:cNvPicPr/>
          <p:nvPr/>
        </p:nvPicPr>
        <p:blipFill>
          <a:blip r:embed="rId3"/>
          <a:stretch/>
        </p:blipFill>
        <p:spPr>
          <a:xfrm rot="11841600">
            <a:off x="7235280" y="2707920"/>
            <a:ext cx="1037880" cy="1298520"/>
          </a:xfrm>
          <a:prstGeom prst="rect">
            <a:avLst/>
          </a:prstGeom>
          <a:ln w="0">
            <a:noFill/>
          </a:ln>
        </p:spPr>
      </p:pic>
      <p:sp>
        <p:nvSpPr>
          <p:cNvPr id="132" name="_s1037"/>
          <p:cNvSpPr/>
          <p:nvPr/>
        </p:nvSpPr>
        <p:spPr>
          <a:xfrm>
            <a:off x="684360" y="1557360"/>
            <a:ext cx="2376360" cy="576360"/>
          </a:xfrm>
          <a:prstGeom prst="rect">
            <a:avLst/>
          </a:prstGeom>
          <a:noFill/>
          <a:ln cap="rnd" w="284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Вежбе диса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_s1038"/>
          <p:cNvSpPr/>
          <p:nvPr/>
        </p:nvSpPr>
        <p:spPr>
          <a:xfrm>
            <a:off x="684360" y="2421000"/>
            <a:ext cx="2950920" cy="576360"/>
          </a:xfrm>
          <a:prstGeom prst="rect">
            <a:avLst/>
          </a:prstGeom>
          <a:noFill/>
          <a:ln cap="rnd" w="284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2.Извођењ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бројал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_s1039"/>
          <p:cNvSpPr/>
          <p:nvPr/>
        </p:nvSpPr>
        <p:spPr>
          <a:xfrm>
            <a:off x="684360" y="3284640"/>
            <a:ext cx="4392360" cy="576000"/>
          </a:xfrm>
          <a:prstGeom prst="rect">
            <a:avLst/>
          </a:prstGeom>
          <a:noFill/>
          <a:ln cap="rnd" w="284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3.Слушање песме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</a:rPr>
              <a:t>Јесен,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А. Кора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20429716"/>
          <p:cNvPicPr/>
          <p:nvPr/>
        </p:nvPicPr>
        <p:blipFill>
          <a:blip r:embed="rId4"/>
          <a:stretch/>
        </p:blipFill>
        <p:spPr>
          <a:xfrm rot="6999600">
            <a:off x="5083200" y="829080"/>
            <a:ext cx="1211400" cy="1514520"/>
          </a:xfrm>
          <a:prstGeom prst="rect">
            <a:avLst/>
          </a:prstGeom>
          <a:ln w="0">
            <a:noFill/>
          </a:ln>
        </p:spPr>
      </p:pic>
      <p:sp>
        <p:nvSpPr>
          <p:cNvPr id="136" name="_s1034"/>
          <p:cNvSpPr/>
          <p:nvPr/>
        </p:nvSpPr>
        <p:spPr>
          <a:xfrm>
            <a:off x="684360" y="4149720"/>
            <a:ext cx="4895640" cy="574560"/>
          </a:xfrm>
          <a:prstGeom prst="rect">
            <a:avLst/>
          </a:prstGeom>
          <a:noFill/>
          <a:ln cap="rnd" w="284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4.Учење песме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</a:rPr>
              <a:t>Јесен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, З. М. Васиље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_s1035"/>
          <p:cNvSpPr/>
          <p:nvPr/>
        </p:nvSpPr>
        <p:spPr>
          <a:xfrm>
            <a:off x="684360" y="5013360"/>
            <a:ext cx="5256000" cy="720720"/>
          </a:xfrm>
          <a:prstGeom prst="rect">
            <a:avLst/>
          </a:prstGeom>
          <a:noFill/>
          <a:ln cap="rnd" w="284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5.Певање песме уз свирање на штапић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_s1035"/>
          <p:cNvSpPr/>
          <p:nvPr/>
        </p:nvSpPr>
        <p:spPr>
          <a:xfrm>
            <a:off x="684360" y="6021360"/>
            <a:ext cx="2881080" cy="576360"/>
          </a:xfrm>
          <a:prstGeom prst="rect">
            <a:avLst/>
          </a:prstGeom>
          <a:noFill/>
          <a:ln cap="rnd" w="284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</a:rPr>
              <a:t>6.Стваралачке игр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3313080" cy="720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Садржај ча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763640" y="2133720"/>
            <a:ext cx="360360" cy="287280"/>
          </a:xfrm>
          <a:prstGeom prst="downArrow">
            <a:avLst>
              <a:gd name="adj1" fmla="val 49778"/>
              <a:gd name="adj2" fmla="val 55801"/>
            </a:avLst>
          </a:prstGeom>
          <a:solidFill>
            <a:srgbClr val="ffe57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1763640" y="2997360"/>
            <a:ext cx="360360" cy="287280"/>
          </a:xfrm>
          <a:prstGeom prst="downArrow">
            <a:avLst>
              <a:gd name="adj1" fmla="val 49778"/>
              <a:gd name="adj2" fmla="val 55801"/>
            </a:avLst>
          </a:prstGeom>
          <a:solidFill>
            <a:srgbClr val="ffe57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1763640" y="3860640"/>
            <a:ext cx="360360" cy="287640"/>
          </a:xfrm>
          <a:prstGeom prst="downArrow">
            <a:avLst>
              <a:gd name="adj1" fmla="val 49778"/>
              <a:gd name="adj2" fmla="val 55801"/>
            </a:avLst>
          </a:prstGeom>
          <a:solidFill>
            <a:srgbClr val="ffe57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1835280" y="4724280"/>
            <a:ext cx="360360" cy="287280"/>
          </a:xfrm>
          <a:prstGeom prst="downArrow">
            <a:avLst>
              <a:gd name="adj1" fmla="val 49778"/>
              <a:gd name="adj2" fmla="val 55801"/>
            </a:avLst>
          </a:prstGeom>
          <a:solidFill>
            <a:srgbClr val="ffe57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1835280" y="5734080"/>
            <a:ext cx="360360" cy="287280"/>
          </a:xfrm>
          <a:prstGeom prst="downArrow">
            <a:avLst>
              <a:gd name="adj1" fmla="val 49778"/>
              <a:gd name="adj2" fmla="val 55801"/>
            </a:avLst>
          </a:prstGeom>
          <a:solidFill>
            <a:srgbClr val="ffe57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5400720" cy="721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Веза са осталим област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28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Језик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: подстицање вербалног изражавања и комуникациј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Свет око нас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r-CS" sz="2200" spc="-1" strike="noStrike" u="sng">
                <a:solidFill>
                  <a:srgbClr val="663300"/>
                </a:solidFill>
                <a:uFillTx/>
                <a:latin typeface="Arial"/>
                <a:hlinkClick r:id="rId1"/>
              </a:rPr>
              <a:t>Обележја јес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Физичко васпитањ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: развијање мотор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20429716"/>
          <p:cNvPicPr/>
          <p:nvPr/>
        </p:nvPicPr>
        <p:blipFill>
          <a:blip r:embed="rId2"/>
          <a:stretch/>
        </p:blipFill>
        <p:spPr>
          <a:xfrm rot="6999600">
            <a:off x="6738840" y="3781800"/>
            <a:ext cx="1211400" cy="151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0429716"/>
          <p:cNvPicPr/>
          <p:nvPr/>
        </p:nvPicPr>
        <p:blipFill>
          <a:blip r:embed="rId3"/>
          <a:stretch/>
        </p:blipFill>
        <p:spPr>
          <a:xfrm rot="17148000">
            <a:off x="4435920" y="4861440"/>
            <a:ext cx="121140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1) Вежбе дис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922560" y="1989000"/>
            <a:ext cx="482616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Удисати ваздух на нос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као да миришу цвећ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, мало га задржати, а затим мирно издисати имитирајући локомотиву која испушта пару (ш..),  балон који испушта ваздух (с...) или ветар који фијуче (фију,у...)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Вежбе дисања изводити уз отворен прозор учионице. Дисати без подизања раме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Вежбе дисања могу се изводити уз причу. На пример: </a:t>
            </a:r>
            <a:r>
              <a:rPr b="0" lang="sr-CS" sz="1900" spc="-1" strike="noStrike" u="sng">
                <a:solidFill>
                  <a:srgbClr val="663300"/>
                </a:solidFill>
                <a:uFillTx/>
                <a:latin typeface="Times New Roman"/>
                <a:hlinkClick r:id="rId1"/>
              </a:rPr>
              <a:t>Шетња воћњаком</a:t>
            </a:r>
            <a:r>
              <a:rPr b="0" lang="sr-CS" sz="1900" spc="-1" strike="noStrike" u="sng">
                <a:solidFill>
                  <a:srgbClr val="663300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785880" y="2143080"/>
            <a:ext cx="2868480" cy="33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5043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(2) Извођење бројал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3357360"/>
            <a:ext cx="5759280" cy="3165480"/>
          </a:xfrm>
          <a:prstGeom prst="rect">
            <a:avLst/>
          </a:prstGeom>
          <a:noFill/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 пре до ме-не до-би не-што од ме-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-де де-да шта-пом лу-п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-па ту-па,  та-па ту-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-сен гу-се-ни-ца, во-да Ле-пе-ни-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 то и-де сам, нек га бу-де с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cc3300"/>
                </a:solidFill>
                <a:latin typeface="Times New Roman"/>
              </a:rPr>
              <a:t>Први корак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Бројалице/разбрајалице изводити разговетним изговарањем текст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делећи га на  слогов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У извођењу датог текста веома је важно правилно наглашавање слого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11280" y="2852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3300"/>
                </a:solidFill>
                <a:latin typeface="Times New Roman"/>
              </a:rPr>
              <a:t>БРОЈА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2436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1964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61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01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82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864252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cc3300"/>
                </a:solidFill>
                <a:latin typeface="Times New Roman"/>
              </a:rPr>
              <a:t>Други корак: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Извођење  ритмичког удара тј. изговарање бројалице пратити равномерним покретима разбројавања, тапшањем (пљескање длана о длан), корачањем/ходањем, ударањем ноге о под (бат), свирањем на дечјим инструментима (на местима означеним *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le 1"/>
          <p:cNvSpPr/>
          <p:nvPr/>
        </p:nvSpPr>
        <p:spPr>
          <a:xfrm>
            <a:off x="395280" y="54936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sr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Извођење бројалице  -</a:t>
            </a:r>
            <a:r>
              <a:rPr b="1" i="1" lang="sr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600" spc="-1" strike="noStrike">
                <a:solidFill>
                  <a:srgbClr val="cc3300"/>
                </a:solidFill>
                <a:latin typeface="Times New Roman"/>
              </a:rPr>
              <a:t>“Ко пре до мене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044720" y="4653000"/>
            <a:ext cx="122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љеса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042920" y="537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кора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042920" y="609300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6227640" y="4724280"/>
            <a:ext cx="1584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евање уз тапшањ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372360" y="5734080"/>
            <a:ext cx="1511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евање уз б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3564000" y="386064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Погледајте анима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ontent Placeholder 5"/>
          <p:cNvSpPr/>
          <p:nvPr/>
        </p:nvSpPr>
        <p:spPr>
          <a:xfrm>
            <a:off x="539640" y="2924280"/>
            <a:ext cx="7920000" cy="792000"/>
          </a:xfrm>
          <a:prstGeom prst="rect">
            <a:avLst/>
          </a:prstGeom>
          <a:noFill/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Ко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пре</a:t>
            </a:r>
            <a:r>
              <a:rPr b="0" lang="sr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до м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не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до-би  не-што од ме - 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не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*       *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*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*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*    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*     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*     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8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835280" y="544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192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66764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596360" y="486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276720" y="4292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841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650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30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8238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974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tle 1"/>
          <p:cNvSpPr/>
          <p:nvPr/>
        </p:nvSpPr>
        <p:spPr>
          <a:xfrm>
            <a:off x="538200" y="620640"/>
            <a:ext cx="71294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2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sr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Извођење бројалице  -</a:t>
            </a:r>
            <a:r>
              <a:rPr b="1" i="1" lang="sr-C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r-CS" sz="2600" spc="-1" strike="noStrike">
                <a:solidFill>
                  <a:srgbClr val="cc3300"/>
                </a:solidFill>
                <a:latin typeface="Times New Roman"/>
              </a:rPr>
              <a:t>“Иде деда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419640" y="3429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Погледајте анима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55640" y="4005360"/>
            <a:ext cx="936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љеса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804000" y="3933720"/>
            <a:ext cx="576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50920" y="1700280"/>
            <a:ext cx="8400960" cy="934920"/>
          </a:xfrm>
          <a:prstGeom prst="rect">
            <a:avLst/>
          </a:prstGeom>
          <a:noFill/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-де де-да шта-пом лу-па та-па ту-па та-па ту-п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059280" y="3933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91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9012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le 1"/>
          <p:cNvSpPr/>
          <p:nvPr/>
        </p:nvSpPr>
        <p:spPr>
          <a:xfrm>
            <a:off x="826920" y="620640"/>
            <a:ext cx="67694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3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sr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Извођење бројалице </a:t>
            </a:r>
            <a:r>
              <a:rPr b="1" i="1" lang="sr-CS" sz="2600" spc="-1" strike="noStrike">
                <a:solidFill>
                  <a:srgbClr val="cc3300"/>
                </a:solidFill>
                <a:latin typeface="Times New Roman"/>
              </a:rPr>
              <a:t>“Гусеница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419640" y="3789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Погледајте анима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42920" y="422100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љеса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516720" y="411156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кора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042920" y="1773360"/>
            <a:ext cx="7129440" cy="1800000"/>
          </a:xfrm>
          <a:prstGeom prst="rect">
            <a:avLst/>
          </a:prstGeom>
          <a:noFill/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Гу -   сен</a:t>
            </a:r>
            <a:r>
              <a:rPr b="1" lang="sr-CS" sz="2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гу-се-ни-ца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во -  да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Ле-пе-ни-ца</a:t>
            </a:r>
            <a:r>
              <a:rPr b="1" lang="sr-CS" sz="2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*        *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*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*          *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*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*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о то 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sr-CS" sz="22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сам </a:t>
            </a:r>
            <a:r>
              <a:rPr b="1" lang="sr-CS" sz="2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     </a:t>
            </a:r>
            <a:r>
              <a:rPr b="1" lang="sr-CS" sz="2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не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га бу-де</a:t>
            </a:r>
            <a:r>
              <a:rPr b="1" lang="sr-CS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срам     </a:t>
            </a:r>
            <a:r>
              <a:rPr b="1" lang="en-US" sz="2200" spc="-1" strike="noStrike">
                <a:solidFill>
                  <a:srgbClr val="800080"/>
                </a:solidFill>
                <a:latin typeface="Arial"/>
              </a:rPr>
              <a:t>   .</a:t>
            </a: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*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*         *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*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*            *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*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36000" y="4149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059280" y="4221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82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4219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8:45:15Z</dcterms:created>
  <dc:creator>SweetYear</dc:creator>
  <dc:description/>
  <dc:language>en-US</dc:language>
  <cp:lastModifiedBy>edusoft</cp:lastModifiedBy>
  <dcterms:modified xsi:type="dcterms:W3CDTF">2008-08-29T08:45:16Z</dcterms:modified>
  <cp:revision>566</cp:revision>
  <dc:subject/>
  <dc:title>Аутори:</dc:title>
</cp:coreProperties>
</file>