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11AB8-A050-4D13-A85F-E9E3B57C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6C270-1F41-4321-A599-C0DC9FB6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7572-CB91-4933-949D-69B235B2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897A-FC85-4710-9145-0F9383FB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5157-F4A8-40EA-923E-EB923570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9DC2-7B66-4C4E-B724-EF170DD8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16C3-9D20-48AE-B71B-AC2F01DF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BBFE-4521-4052-AB0C-1A88AA08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F555-64DC-4120-8458-148411A5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7F02-FE56-4DE3-8E79-E740F3B9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FC4F-EB78-4703-9D5C-237443F9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3544-E009-46F7-BD41-1CDBDDA9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965B-BBED-406C-9073-05440C3A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44F0-9698-4A40-A54D-4C751055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86D8-7FAC-484F-86F2-84E2A7DE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4E63-2E08-4464-AE54-FCB1489F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B34D-A4D1-4B98-BA03-EC79FD37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D58C-C386-4532-927F-8AE12C89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2F66-CF53-4718-BCA8-A88E3AEA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6403-F025-45B6-A397-4583EEBF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1603-4E18-40F4-B015-F78946F8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DC702-BE02-465F-BBC1-3628292B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C5C1-357E-4B3E-803D-644694C9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7191-16C9-429A-BB7E-C7C9EC51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2658-EF55-4B8A-AAAD-7F65B6C2E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2F42-99ED-4F1C-B044-FD6FD0F19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file:///jesen/materijal%20za%20portal/za%20kreativni%20kutak/8BIRD4.WAV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1844280"/>
            <a:ext cx="60199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ffffff"/>
                </a:solidFill>
                <a:latin typeface="Times New Roman"/>
              </a:rPr>
              <a:t>КРЕАТИВНИ КУТА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2924280"/>
            <a:ext cx="3025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7400" spc="-1" strike="noStrike">
                <a:solidFill>
                  <a:srgbClr val="ffffff"/>
                </a:solidFill>
                <a:latin typeface="Times New Roman"/>
              </a:rPr>
              <a:t>Јесен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17327400">
            <a:off x="4939200" y="4572360"/>
            <a:ext cx="1211400" cy="1514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 rot="17327400">
            <a:off x="7171200" y="4645440"/>
            <a:ext cx="1211400" cy="1514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836640"/>
            <a:ext cx="353844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663300"/>
                </a:solidFill>
                <a:latin typeface="Times New Roman"/>
              </a:rPr>
              <a:t>Креативни кута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(1) Прављење инструмената од јесењих плодо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- Дрвене гране (</a:t>
            </a:r>
            <a:r>
              <a:rPr b="0" lang="sr-CS" sz="1900" spc="-1" strike="noStrike">
                <a:solidFill>
                  <a:srgbClr val="ff3300"/>
                </a:solidFill>
                <a:latin typeface="Times New Roman"/>
              </a:rPr>
              <a:t>штапићи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- Сушене тикв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суве чауре мака, семе лана, суви грашак (</a:t>
            </a:r>
            <a:r>
              <a:rPr b="0" lang="sr-CS" sz="1900" spc="-1" strike="noStrike">
                <a:solidFill>
                  <a:srgbClr val="ff3300"/>
                </a:solidFill>
                <a:latin typeface="Times New Roman"/>
              </a:rPr>
              <a:t>звечке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- Љуске ораха и кестена (</a:t>
            </a:r>
            <a:r>
              <a:rPr b="0" lang="sr-CS" sz="1900" spc="-1" strike="noStrike">
                <a:solidFill>
                  <a:srgbClr val="ff3300"/>
                </a:solidFill>
                <a:latin typeface="Times New Roman"/>
              </a:rPr>
              <a:t>пљескала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(2) Истраживање могућности различитих извора звук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(глас, инструмент) у подражавању ономатопеј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18692400">
            <a:off x="7315920" y="1405440"/>
            <a:ext cx="1211400" cy="151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rot="18913200">
            <a:off x="5580000" y="764640"/>
            <a:ext cx="1038240" cy="129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2459160" cy="863640"/>
          </a:xfrm>
          <a:prstGeom prst="rect">
            <a:avLst/>
          </a:prstGeom>
          <a:noFill/>
          <a:ln w="38160">
            <a:solidFill>
              <a:srgbClr val="cc660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cc6600"/>
                </a:solidFill>
                <a:latin typeface="Times New Roman"/>
              </a:rPr>
              <a:t>Штапић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0" descr="шума"/>
          <p:cNvPicPr/>
          <p:nvPr/>
        </p:nvPicPr>
        <p:blipFill>
          <a:blip r:embed="rId1"/>
          <a:stretch/>
        </p:blipFill>
        <p:spPr>
          <a:xfrm>
            <a:off x="5003640" y="1557360"/>
            <a:ext cx="3494160" cy="4608360"/>
          </a:xfrm>
          <a:prstGeom prst="rect">
            <a:avLst/>
          </a:prstGeom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6" name="Picture 21" descr="stapici pravljeni"/>
          <p:cNvPicPr/>
          <p:nvPr/>
        </p:nvPicPr>
        <p:blipFill>
          <a:blip r:embed="rId2"/>
          <a:stretch/>
        </p:blipFill>
        <p:spPr>
          <a:xfrm>
            <a:off x="2771640" y="4724280"/>
            <a:ext cx="1729080" cy="1382760"/>
          </a:xfrm>
          <a:prstGeom prst="rect">
            <a:avLst/>
          </a:prstGeom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7" name="Picture 27" descr="stapici"/>
          <p:cNvPicPr/>
          <p:nvPr/>
        </p:nvPicPr>
        <p:blipFill>
          <a:blip r:embed="rId3"/>
          <a:stretch/>
        </p:blipFill>
        <p:spPr>
          <a:xfrm>
            <a:off x="611280" y="4735440"/>
            <a:ext cx="1800000" cy="1357560"/>
          </a:xfrm>
          <a:prstGeom prst="rect">
            <a:avLst/>
          </a:prstGeom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8" name="Rectangle 9"/>
          <p:cNvSpPr/>
          <p:nvPr/>
        </p:nvSpPr>
        <p:spPr>
          <a:xfrm>
            <a:off x="468360" y="1916280"/>
            <a:ext cx="4248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ронаћи суве гране тврдог дрве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Исећи их на дужину 15-20 ц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Лупањем гране о грану провери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звук.  Скинути им кору, а зати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ремазати бојом и лако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tikva"/>
          <p:cNvPicPr/>
          <p:nvPr/>
        </p:nvPicPr>
        <p:blipFill>
          <a:blip r:embed="rId1"/>
          <a:stretch/>
        </p:blipFill>
        <p:spPr>
          <a:xfrm>
            <a:off x="5651640" y="981000"/>
            <a:ext cx="949320" cy="11556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</p:pic>
      <p:pic>
        <p:nvPicPr>
          <p:cNvPr id="120" name="Picture 8" descr="tikve zvecke"/>
          <p:cNvPicPr/>
          <p:nvPr/>
        </p:nvPicPr>
        <p:blipFill>
          <a:blip r:embed="rId2"/>
          <a:stretch/>
        </p:blipFill>
        <p:spPr>
          <a:xfrm>
            <a:off x="5580000" y="2349360"/>
            <a:ext cx="2376720" cy="190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pic>
        <p:nvPicPr>
          <p:cNvPr id="121" name="Picture 9" descr="cahura maka"/>
          <p:cNvPicPr/>
          <p:nvPr/>
        </p:nvPicPr>
        <p:blipFill>
          <a:blip r:embed="rId3"/>
          <a:stretch/>
        </p:blipFill>
        <p:spPr>
          <a:xfrm>
            <a:off x="6877080" y="549360"/>
            <a:ext cx="1028520" cy="1582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pic>
        <p:nvPicPr>
          <p:cNvPr id="122" name="Picture 10" descr="mak zvecka"/>
          <p:cNvPicPr/>
          <p:nvPr/>
        </p:nvPicPr>
        <p:blipFill>
          <a:blip r:embed="rId4"/>
          <a:stretch/>
        </p:blipFill>
        <p:spPr>
          <a:xfrm>
            <a:off x="5580000" y="4437000"/>
            <a:ext cx="2378160" cy="1903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123" name="Rectangle 7"/>
          <p:cNvSpPr/>
          <p:nvPr/>
        </p:nvSpPr>
        <p:spPr>
          <a:xfrm>
            <a:off x="1187280" y="765000"/>
            <a:ext cx="2459160" cy="863640"/>
          </a:xfrm>
          <a:prstGeom prst="rect">
            <a:avLst/>
          </a:prstGeom>
          <a:noFill/>
          <a:ln w="381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cc6600"/>
                </a:solidFill>
                <a:latin typeface="Times New Roman"/>
              </a:rPr>
              <a:t>Звеч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68360" y="2133720"/>
            <a:ext cx="460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Скинути дршку тикви и оставити је на сунчано место да се осуш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Када се осуши плод тикве  осликати и премазати безбојним лаком. Трешењем плода добија се зву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лод мака (крупнију чауру) убрати са дршком (стабљиком). Када се осуши премазати бојом и безбојним лаком како би природна звечка била постојаниј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Одсечним трешењем плода/звечке добија се нежан, тиши звук у односу на звук плода сушене тик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pljeskala 1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468360" y="4941720"/>
            <a:ext cx="1727280" cy="13813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</p:pic>
      <p:pic>
        <p:nvPicPr>
          <p:cNvPr id="126" name="Picture 10" descr="pljeskala 3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2340000" y="4941720"/>
            <a:ext cx="1944720" cy="139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7" name="Picture 11" descr="pljeskala 4"/>
          <p:cNvPicPr/>
          <p:nvPr/>
        </p:nvPicPr>
        <p:blipFill>
          <a:blip r:embed="rId3">
            <a:lum contrast="4000"/>
          </a:blip>
          <a:stretch/>
        </p:blipFill>
        <p:spPr>
          <a:xfrm>
            <a:off x="4429080" y="4941720"/>
            <a:ext cx="2087640" cy="14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8" name="Picture 12" descr="pljeskala 5"/>
          <p:cNvPicPr/>
          <p:nvPr/>
        </p:nvPicPr>
        <p:blipFill>
          <a:blip r:embed="rId4">
            <a:lum contrast="4000"/>
          </a:blip>
          <a:stretch/>
        </p:blipFill>
        <p:spPr>
          <a:xfrm>
            <a:off x="6659640" y="4941720"/>
            <a:ext cx="1800000" cy="144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9" name="Picture 13" descr="pljeskala 7"/>
          <p:cNvPicPr/>
          <p:nvPr/>
        </p:nvPicPr>
        <p:blipFill>
          <a:blip r:embed="rId5"/>
          <a:stretch/>
        </p:blipFill>
        <p:spPr>
          <a:xfrm>
            <a:off x="539640" y="620640"/>
            <a:ext cx="1440000" cy="1327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0" name="Rectangle 7"/>
          <p:cNvSpPr/>
          <p:nvPr/>
        </p:nvSpPr>
        <p:spPr>
          <a:xfrm>
            <a:off x="2124000" y="1052640"/>
            <a:ext cx="2459160" cy="863640"/>
          </a:xfrm>
          <a:prstGeom prst="rect">
            <a:avLst/>
          </a:prstGeom>
          <a:noFill/>
          <a:ln w="381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cc6600"/>
                </a:solidFill>
                <a:latin typeface="Times New Roman"/>
              </a:rPr>
              <a:t>Пљеск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50920" y="2276640"/>
            <a:ext cx="8281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лод ораха отворити врхом ножа (ако су ученици првог и другог разреда уместо њих то ради наставник или родитељ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Језгро ораха извући из љуске пазећи да се обод љуске не оште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На предњи део љуске лепком налепити канап или траку тако да прст може да прође кроз њи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На палац ставити једну половину орахове љуске, а на кажипрст другу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Ударањем једне половине љуске о другу добија се звук сличан кастањетама. (Уместо лепљења траке, љуска ораха се може пробушити ексером, а канап провући и везати са унутрашње стране љуске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936720"/>
          </a:xfrm>
          <a:prstGeom prst="rect">
            <a:avLst/>
          </a:prstGeom>
          <a:noFill/>
          <a:ln cap="rnd" w="28440">
            <a:solidFill>
              <a:srgbClr val="cc3300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6600"/>
                </a:solidFill>
                <a:latin typeface="Times New Roman"/>
              </a:rPr>
              <a:t>Истраживање могућности различитих извора звука (глас, инструмент) у подражавању ономатопе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Strix_aluco_2"/>
          <p:cNvPicPr/>
          <p:nvPr/>
        </p:nvPicPr>
        <p:blipFill>
          <a:blip r:embed="rId1"/>
          <a:stretch/>
        </p:blipFill>
        <p:spPr>
          <a:xfrm>
            <a:off x="826920" y="1989000"/>
            <a:ext cx="2071800" cy="1177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Campephilus-principalis"/>
          <p:cNvPicPr/>
          <p:nvPr/>
        </p:nvPicPr>
        <p:blipFill>
          <a:blip r:embed="rId2"/>
          <a:stretch/>
        </p:blipFill>
        <p:spPr>
          <a:xfrm>
            <a:off x="3203640" y="3645000"/>
            <a:ext cx="2160360" cy="129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ptic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962000"/>
            <a:ext cx="1928520" cy="132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PRIRODA 081"/>
          <p:cNvPicPr/>
          <p:nvPr/>
        </p:nvPicPr>
        <p:blipFill>
          <a:blip r:embed="rId5"/>
          <a:stretch/>
        </p:blipFill>
        <p:spPr>
          <a:xfrm>
            <a:off x="826920" y="3656160"/>
            <a:ext cx="2071800" cy="128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medved"/>
          <p:cNvPicPr/>
          <p:nvPr/>
        </p:nvPicPr>
        <p:blipFill>
          <a:blip r:embed="rId6"/>
          <a:stretch/>
        </p:blipFill>
        <p:spPr>
          <a:xfrm>
            <a:off x="3203640" y="1989000"/>
            <a:ext cx="2095560" cy="1214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395280" y="4653000"/>
            <a:ext cx="82296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Први корак: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овезивање звука са одговарајућом слик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Други корак: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Опонашање звукова које су претходно чули гласом или на дечјим инструментим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651640" y="3645000"/>
            <a:ext cx="187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7667640" y="1916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766764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7667640" y="270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8172360" y="1916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2"/>
          <a:stretch/>
        </p:blipFill>
        <p:spPr>
          <a:xfrm>
            <a:off x="817236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3"/>
          <a:stretch/>
        </p:blipFill>
        <p:spPr>
          <a:xfrm>
            <a:off x="817236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53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566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5939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892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3599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5098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8:46:08Z</dcterms:created>
  <dc:creator>SANDRA</dc:creator>
  <dc:description/>
  <dc:language>en-US</dc:language>
  <cp:lastModifiedBy>edusoft</cp:lastModifiedBy>
  <dcterms:modified xsi:type="dcterms:W3CDTF">2008-08-29T08:46:16Z</dcterms:modified>
  <cp:revision>10</cp:revision>
  <dc:subject/>
  <dc:title>КРЕАТИВНИ КУТАК</dc:title>
</cp:coreProperties>
</file>