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4BE1-3F2B-4035-8CDE-F2D1A781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1A8-7574-401A-9D63-7384DCB1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5BC-8D9F-4E38-A9C6-CD22E6AA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E128-FC9E-4C7E-AD4D-D8568DC3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424B-BE5C-418A-AEE6-C319CCC4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0FB2-5522-4631-BDD4-3C86D91D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3C49-5CF0-4AE8-8350-73AE3FE0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8ECE-1059-491C-9754-515495A7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0BF4-24E8-4B34-863C-39E4F2E0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4BF2-A6A5-46BB-A844-66D97D9A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C2E7-2714-4E3D-91F3-A6C9A855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7616-2026-4E77-BF97-EB67A47D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ABCF-0B6B-4E4C-B7F9-0FBEE1CF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6A13-6EC2-4D13-8E68-F7511D6F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0453-6107-480B-9235-BE339686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3CA0-20BE-4149-B2E9-4DC03A66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91C7-525A-4435-818F-BFFC2DA6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FA55-CF34-4EBA-B505-688B7017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549B-9ECF-4F62-8CA0-90829D79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2FE-2889-47A6-ABBC-B646CE70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AB4-AD5A-4C08-8982-E77A961E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9792-55EF-4975-979A-992A50D4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6B86-10B1-4F8C-8F3C-32255D0A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CB9-9A51-4890-AF75-A369E516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C0AF-93A2-468E-BD98-897369E9978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A586-008C-4243-ADAD-A845980659C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4360" y="692280"/>
            <a:ext cx="7848360" cy="540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84480" y="1365120"/>
            <a:ext cx="6359040" cy="815400"/>
          </a:xfrm>
          <a:prstGeom prst="rect">
            <a:avLst/>
          </a:prstGeom>
          <a:noFill/>
          <a:ln cap="rnd" w="76320">
            <a:solidFill>
              <a:srgbClr val="99cc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339933"/>
                </a:solidFill>
                <a:latin typeface="Times New Roman"/>
              </a:rPr>
              <a:t>Слушамо музичку прич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618920" y="3068640"/>
            <a:ext cx="532764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sr-CS" sz="4000" spc="-1" strike="noStrike">
                <a:solidFill>
                  <a:srgbClr val="3366ff"/>
                </a:solidFill>
                <a:latin typeface="Times New Roman"/>
              </a:rPr>
              <a:t>Медведова женидба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640" y="549360"/>
            <a:ext cx="8280360" cy="604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08000" y="2276640"/>
            <a:ext cx="48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187280" y="692280"/>
            <a:ext cx="67694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</a:rPr>
              <a:t>Медведова женидба, Л.Димитријевић</a:t>
            </a:r>
            <a:br>
              <a:rPr sz="2800"/>
            </a:br>
            <a:r>
              <a:rPr b="0" i="1" lang="sr-CS" sz="2800" spc="-1" strike="noStrike">
                <a:solidFill>
                  <a:srgbClr val="339933"/>
                </a:solidFill>
                <a:latin typeface="Times New Roman"/>
              </a:rPr>
              <a:t>(шеста цел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>
            <a:lum contrast="4000"/>
          </a:blip>
          <a:stretch/>
        </p:blipFill>
        <p:spPr>
          <a:xfrm>
            <a:off x="826920" y="2637000"/>
            <a:ext cx="3600720" cy="31683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4427640" y="2708280"/>
            <a:ext cx="4321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r-CS" sz="1900" spc="-1" strike="noStrike">
                <a:solidFill>
                  <a:srgbClr val="000000"/>
                </a:solidFill>
                <a:latin typeface="Times New Roman"/>
              </a:rPr>
              <a:t>После шесте целине разговор подстаћи питањим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1. Шта ће медвед играти ласици ако пристане да му буде жен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2. Како је ласица музиком осликан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3. Зашто ласица не може бити представљена дубоким гласом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4. Шта мислите како ће се прич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завршити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227640" y="155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2184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549360"/>
            <a:ext cx="8280360" cy="604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2852640"/>
            <a:ext cx="48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1332000" y="549360"/>
            <a:ext cx="6769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</a:rPr>
              <a:t>Медведова женидба, Л.Димитријевић</a:t>
            </a:r>
            <a:br>
              <a:rPr sz="2800"/>
            </a:br>
            <a:r>
              <a:rPr b="0" i="1" lang="sr-CS" sz="2800" spc="-1" strike="noStrike">
                <a:solidFill>
                  <a:srgbClr val="339933"/>
                </a:solidFill>
                <a:latin typeface="Times New Roman"/>
              </a:rPr>
              <a:t>(довршавамо прич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32000" y="2565360"/>
            <a:ext cx="2138400" cy="2171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3635280" y="2421000"/>
            <a:ext cx="460872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900" spc="-1" strike="noStrike">
                <a:solidFill>
                  <a:srgbClr val="000000"/>
                </a:solidFill>
                <a:latin typeface="Times New Roman"/>
              </a:rPr>
              <a:t>Ученици довршавају причу пре слушања последњег дела 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Да чујемо шта се заиста догодило у музичкој причи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700" spc="-1" strike="noStrike">
                <a:solidFill>
                  <a:srgbClr val="000000"/>
                </a:solidFill>
                <a:latin typeface="Times New Roman"/>
              </a:rPr>
              <a:t>Нека нам музика открије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25"/>
              </a:spcBef>
              <a:buClr>
                <a:srgbClr val="99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9640" y="549360"/>
            <a:ext cx="8280360" cy="604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08000" y="2276640"/>
            <a:ext cx="48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>
            <a:lum contrast="4000"/>
          </a:blip>
          <a:stretch/>
        </p:blipFill>
        <p:spPr>
          <a:xfrm>
            <a:off x="755640" y="2349360"/>
            <a:ext cx="3816360" cy="3240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1403280" y="692280"/>
            <a:ext cx="67690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</a:rPr>
              <a:t>Медведова женидба, Л.Димитријевић</a:t>
            </a:r>
            <a:br>
              <a:rPr sz="2800"/>
            </a:br>
            <a:r>
              <a:rPr b="0" i="1" lang="sr-CS" sz="2800" spc="-1" strike="noStrike">
                <a:solidFill>
                  <a:srgbClr val="339933"/>
                </a:solidFill>
                <a:latin typeface="Times New Roman"/>
              </a:rPr>
              <a:t>(седма цел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643280" y="2205000"/>
            <a:ext cx="4105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Питања за последњу целин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1. Каквим гласом је представљена медведиц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2. Упореди глас ласице и веверице са медведичин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3. Која њена особина је осликана музик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4. Каква је песма на крају прич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5. Како је музиком дочарано шумско весеље, тј. да ли се чује само један гла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372360" y="155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1196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9640" y="549360"/>
            <a:ext cx="8280360" cy="604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8000" y="2276640"/>
            <a:ext cx="48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684360" y="33336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(2) Разговор о одигравању музичке при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2340000" y="1268280"/>
            <a:ext cx="367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3366ff"/>
                </a:solidFill>
                <a:uFillTx/>
                <a:latin typeface="Times New Roman"/>
              </a:rPr>
              <a:t>Медведова женид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724360" y="4732200"/>
            <a:ext cx="2448000" cy="17128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3"/>
          <p:cNvSpPr/>
          <p:nvPr/>
        </p:nvSpPr>
        <p:spPr>
          <a:xfrm>
            <a:off x="755640" y="1989000"/>
            <a:ext cx="8137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238"/>
              </a:spcBef>
              <a:buClr>
                <a:srgbClr val="99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На крају часа повести разговор о одигравању приче. На који начин би поделили улоге? Како би направили костиме и сцену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38"/>
              </a:spcBef>
              <a:buClr>
                <a:srgbClr val="99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Договор о невербалном одигравању музичке приче (гест, мимика, покрет). Битно је да схвате на који начин покрет усклађен са музиком може да дочара ликове из прич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38"/>
              </a:spcBef>
              <a:buClr>
                <a:srgbClr val="99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Заједно дати предлоге за сваки лик, односно водити разговор на који начин мимиком и гестом радња музичке приче може да “оживи”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38"/>
              </a:spcBef>
              <a:buClr>
                <a:srgbClr val="99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Слушана музичка прича може се извести н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приредби, на крају школске годин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38"/>
              </a:spcBef>
              <a:buClr>
                <a:srgbClr val="99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19408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9640" y="549360"/>
            <a:ext cx="8136000" cy="590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900000" y="1413000"/>
            <a:ext cx="7632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Препознавање гласова (мушког, женског) и њихових особина (дубок, висок) и начина на који утичу на музичко сликање одређених ликова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900"/>
            </a:b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907920"/>
            <a:ext cx="2808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</a:rPr>
              <a:t>Задатак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_s1031"/>
          <p:cNvSpPr/>
          <p:nvPr/>
        </p:nvSpPr>
        <p:spPr>
          <a:xfrm>
            <a:off x="1979640" y="3573360"/>
            <a:ext cx="4103640" cy="892440"/>
          </a:xfrm>
          <a:prstGeom prst="rect">
            <a:avLst/>
          </a:prstGeom>
          <a:noFill/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Слушање “</a:t>
            </a:r>
            <a:r>
              <a:rPr b="1" i="1" lang="sr-CS" sz="2000" spc="-1" strike="noStrike">
                <a:solidFill>
                  <a:srgbClr val="000000"/>
                </a:solidFill>
                <a:latin typeface="Times New Roman"/>
              </a:rPr>
              <a:t>Медведове женидбе”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sr-CS" sz="2000" spc="-1" strike="noStrike">
                <a:solidFill>
                  <a:srgbClr val="000000"/>
                </a:solidFill>
                <a:latin typeface="Times New Roman"/>
              </a:rPr>
              <a:t>Л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2000" spc="-1" strike="noStrike">
                <a:solidFill>
                  <a:srgbClr val="000000"/>
                </a:solidFill>
                <a:latin typeface="Times New Roman"/>
              </a:rPr>
              <a:t>Димитрије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6"/>
          <p:cNvSpPr/>
          <p:nvPr/>
        </p:nvSpPr>
        <p:spPr>
          <a:xfrm>
            <a:off x="3708360" y="5084640"/>
            <a:ext cx="3240000" cy="1008720"/>
          </a:xfrm>
          <a:prstGeom prst="rect">
            <a:avLst/>
          </a:prstGeom>
          <a:noFill/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2. Разговор о одигравању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узичке прич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2637000"/>
            <a:ext cx="27370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</a:rPr>
              <a:t>Садржај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139000">
            <a:off x="5580000" y="3860640"/>
            <a:ext cx="1440000" cy="9352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4310" y="9324"/>
                </a:moveTo>
                <a:arcTo wR="-6656" hR="-6656" stAng="-10031355" swAng="-7968496"/>
                <a:lnTo>
                  <a:pt x="5400" y="1447"/>
                </a:lnTo>
                <a:arcTo wR="10800" hR="10800" stAng="-7199852" swAng="7968496"/>
                <a:lnTo>
                  <a:pt x="23964" y="13793"/>
                </a:lnTo>
                <a:lnTo>
                  <a:pt x="18253" y="17388"/>
                </a:lnTo>
                <a:lnTo>
                  <a:pt x="14658" y="116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404640"/>
            <a:ext cx="8136000" cy="604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836640"/>
            <a:ext cx="55450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3366ff"/>
                </a:solidFill>
                <a:latin typeface="Times New Roman"/>
              </a:rPr>
              <a:t>Везе са осталим области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1989000"/>
            <a:ext cx="5256360" cy="34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3366ff"/>
                </a:solidFill>
                <a:latin typeface="Times New Roman"/>
              </a:rPr>
              <a:t>Свет око нас: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проширивање информација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арактеристикама животиња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кретање, станиште-шума, животиње које спавају „зимски сан“ и сл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3366ff"/>
                </a:solidFill>
                <a:latin typeface="Times New Roman"/>
              </a:rPr>
              <a:t>Језик: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неговање културе вербалног изражавања и комуникације;  богаћење речника (чарна шума, дукати, медовина и сл.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3366ff"/>
                </a:solidFill>
                <a:latin typeface="Times New Roman"/>
              </a:rPr>
              <a:t>Ликовна култура:</a:t>
            </a:r>
            <a:r>
              <a:rPr b="1" i="1" lang="sr-CS" sz="19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осмишљавање сцене и костима за музичку прич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12000" y="3573360"/>
            <a:ext cx="2454120" cy="2853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476280"/>
            <a:ext cx="8136000" cy="604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324000" y="476280"/>
            <a:ext cx="78483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1. Слушање музичке прич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8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sr-CS" sz="2800" spc="-1" strike="noStrike">
                <a:solidFill>
                  <a:srgbClr val="3366ff"/>
                </a:solidFill>
                <a:latin typeface="Times New Roman"/>
              </a:rPr>
              <a:t>Медведова женидба”,</a:t>
            </a:r>
            <a:r>
              <a:rPr b="0" i="1" lang="sr-CS" sz="28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3366ff"/>
                </a:solidFill>
                <a:latin typeface="Times New Roman"/>
              </a:rPr>
              <a:t>Л.Димитријев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684360" y="2178000"/>
            <a:ext cx="77724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Слушање музичке приче одступа од класично вођеног процеса слушања краћих композиција. Музичку причу 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sr-CS" sz="1900" spc="-1" strike="noStrike">
                <a:solidFill>
                  <a:srgbClr val="000000"/>
                </a:solidFill>
                <a:latin typeface="Times New Roman"/>
              </a:rPr>
              <a:t>едведова женидба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 делити на седам целина. После сваке одслушане целине водити разговор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buClr>
                <a:srgbClr val="99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Припрема за активно слушање музичке приче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900" spc="-1" strike="noStrike">
                <a:solidFill>
                  <a:srgbClr val="000000"/>
                </a:solidFill>
                <a:latin typeface="Times New Roman"/>
              </a:rPr>
              <a:t>Музика дочарава звуке из природе, оглашавања животиња, њихова кретања. Сада ћете чути како музиком може да се исприча прича.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CS" sz="1900" spc="-1" strike="noStrike">
                <a:solidFill>
                  <a:srgbClr val="000000"/>
                </a:solidFill>
                <a:latin typeface="Times New Roman"/>
              </a:rPr>
              <a:t>Обратите пажњу који ликови се појављују у причи, каквим гласом су представљени (мушким или женским), али и какав је њихов глас (висок или дубок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9640" y="476280"/>
            <a:ext cx="8136000" cy="604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contrast="4000"/>
          </a:blip>
          <a:stretch/>
        </p:blipFill>
        <p:spPr>
          <a:xfrm>
            <a:off x="1116000" y="3068640"/>
            <a:ext cx="3311640" cy="24782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1116000" y="620640"/>
            <a:ext cx="67690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</a:rPr>
              <a:t>Медведова женидба, Л.Димитријевић</a:t>
            </a:r>
            <a:br>
              <a:rPr sz="2800"/>
            </a:br>
            <a:r>
              <a:rPr b="0" i="1" lang="sr-CS" sz="2800" spc="-1" strike="noStrike">
                <a:solidFill>
                  <a:srgbClr val="339933"/>
                </a:solidFill>
                <a:latin typeface="Times New Roman"/>
              </a:rPr>
              <a:t>(прва цел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643280" y="2133720"/>
            <a:ext cx="3961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900" spc="-1" strike="noStrike">
                <a:solidFill>
                  <a:srgbClr val="000000"/>
                </a:solidFill>
                <a:latin typeface="Times New Roman"/>
              </a:rPr>
              <a:t>После одслушаног првог дел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900" spc="-1" strike="noStrike">
                <a:solidFill>
                  <a:srgbClr val="000000"/>
                </a:solidFill>
                <a:latin typeface="Times New Roman"/>
              </a:rPr>
              <a:t>композиције разговор повести с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900" spc="-1" strike="noStrike">
                <a:solidFill>
                  <a:srgbClr val="000000"/>
                </a:solidFill>
                <a:latin typeface="Times New Roman"/>
              </a:rPr>
              <a:t>ученицима на следећи начин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1. О коме се пева у овој причи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2. Каквим гласом пева главни лик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мушким или женским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3. Да ли пева високим или дубоки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гласом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4. Како би ходао уз медину песму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12000" y="141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27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1280" y="476280"/>
            <a:ext cx="8136000" cy="604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042920" y="620640"/>
            <a:ext cx="67690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</a:rPr>
              <a:t>Медведова женидба, Л.Димитријевић</a:t>
            </a:r>
            <a:br>
              <a:rPr sz="2800"/>
            </a:br>
            <a:r>
              <a:rPr b="0" i="1" lang="sr-CS" sz="2800" spc="-1" strike="noStrike">
                <a:solidFill>
                  <a:srgbClr val="339933"/>
                </a:solidFill>
                <a:latin typeface="Times New Roman"/>
              </a:rPr>
              <a:t>(друга цел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>
            <a:lum contrast="4000"/>
          </a:blip>
          <a:stretch/>
        </p:blipFill>
        <p:spPr>
          <a:xfrm>
            <a:off x="1042920" y="3284640"/>
            <a:ext cx="3384720" cy="24447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4429080" y="2708280"/>
            <a:ext cx="45356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r-CS" sz="1900" spc="-1" strike="noStrike">
                <a:solidFill>
                  <a:srgbClr val="000000"/>
                </a:solidFill>
                <a:latin typeface="Times New Roman"/>
              </a:rPr>
              <a:t>Разговор после друге целине водити питањим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1. Кога је медвед Брундо прво срео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2. Како јој се обратио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3. Каквим гласом је дочарана лисиц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4. На који начин се лисица обраћа Брунду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5. Коју особину лисице музика “слика”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12000" y="148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377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9640" y="549360"/>
            <a:ext cx="8280360" cy="604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2276640"/>
            <a:ext cx="48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187280" y="692280"/>
            <a:ext cx="67694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</a:rPr>
              <a:t>Медведова женидба, Л.Димитријевић</a:t>
            </a:r>
            <a:br>
              <a:rPr sz="2800"/>
            </a:br>
            <a:r>
              <a:rPr b="0" i="1" lang="sr-CS" sz="2800" spc="-1" strike="noStrike">
                <a:solidFill>
                  <a:srgbClr val="339933"/>
                </a:solidFill>
                <a:latin typeface="Times New Roman"/>
              </a:rPr>
              <a:t>(трећа цел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>
            <a:lum contrast="4000"/>
          </a:blip>
          <a:stretch/>
        </p:blipFill>
        <p:spPr>
          <a:xfrm>
            <a:off x="1116000" y="3068640"/>
            <a:ext cx="3456000" cy="2579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4643280" y="2565360"/>
            <a:ext cx="4176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r-CS" sz="1900" spc="-1" strike="noStrike">
                <a:solidFill>
                  <a:srgbClr val="000000"/>
                </a:solidFill>
                <a:latin typeface="Times New Roman"/>
              </a:rPr>
              <a:t>Разговор после треће целине подстаћи питањим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1. Коју животињу је медвед  сада замолио да му да кћер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2. Каквим гласом је представљен зец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3.  Која особина зеца је дочарана музиком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4. Како би ходао уз медину, а како уз зекину песму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227640" y="155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988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9640" y="549360"/>
            <a:ext cx="8280360" cy="604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2276640"/>
            <a:ext cx="48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1258920" y="620640"/>
            <a:ext cx="67690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</a:rPr>
              <a:t>Медведова женидба, Л.Димитријевић</a:t>
            </a:r>
            <a:br>
              <a:rPr sz="2800"/>
            </a:br>
            <a:r>
              <a:rPr b="0" i="1" lang="sr-CS" sz="2800" spc="-1" strike="noStrike">
                <a:solidFill>
                  <a:srgbClr val="339933"/>
                </a:solidFill>
                <a:latin typeface="Times New Roman"/>
              </a:rPr>
              <a:t>(четврта цел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000"/>
          </a:blip>
          <a:stretch/>
        </p:blipFill>
        <p:spPr>
          <a:xfrm>
            <a:off x="755640" y="2852640"/>
            <a:ext cx="3672000" cy="28069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4500720" y="2708280"/>
            <a:ext cx="4249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r-CS" sz="1900" spc="-1" strike="noStrike">
                <a:solidFill>
                  <a:srgbClr val="000000"/>
                </a:solidFill>
                <a:latin typeface="Times New Roman"/>
              </a:rPr>
              <a:t>Питања за разговор после четврте целине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1. О чему музика даље “говори”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2. Каквим гласом је осликан вук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3. О којој особини вука сазнајемо из његове песме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4. Како се он обраћа медведу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443640" y="148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719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a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9640" y="549360"/>
            <a:ext cx="8280360" cy="604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8000" y="2276640"/>
            <a:ext cx="48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1187280" y="620640"/>
            <a:ext cx="676944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66ff"/>
                </a:solidFill>
                <a:latin typeface="Times New Roman"/>
              </a:rPr>
              <a:t>Медведова женидба, Л.Димитријевић</a:t>
            </a:r>
            <a:br>
              <a:rPr sz="2800"/>
            </a:br>
            <a:r>
              <a:rPr b="0" i="1" lang="sr-CS" sz="2800" spc="-1" strike="noStrike">
                <a:solidFill>
                  <a:srgbClr val="339933"/>
                </a:solidFill>
                <a:latin typeface="Times New Roman"/>
              </a:rPr>
              <a:t>(пета цел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3527640" cy="30970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7"/>
          <p:cNvSpPr/>
          <p:nvPr/>
        </p:nvSpPr>
        <p:spPr>
          <a:xfrm>
            <a:off x="4572000" y="2709720"/>
            <a:ext cx="4321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r-CS" sz="1900" spc="-1" strike="noStrike">
                <a:solidFill>
                  <a:srgbClr val="000000"/>
                </a:solidFill>
                <a:latin typeface="Times New Roman"/>
              </a:rPr>
              <a:t>За ову целину разговор водити кроз следећа питањ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1. Коме се медвед даље обратио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2. Каквим гласом је дочарана веверица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Times New Roman"/>
              </a:rPr>
              <a:t>3. Коју особину веверице дочарава музика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988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8:46:54Z</dcterms:created>
  <dc:creator>mandic</dc:creator>
  <dc:description/>
  <dc:language>en-US</dc:language>
  <cp:lastModifiedBy>edusoft</cp:lastModifiedBy>
  <dcterms:modified xsi:type="dcterms:W3CDTF">2008-09-04T08:12:37Z</dcterms:modified>
  <cp:revision>137</cp:revision>
  <dc:subject/>
  <dc:title>КАКО ДЕЛИМО</dc:title>
</cp:coreProperties>
</file>